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54B-3BE0-42AC-B417-9CE2E1D5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75A-54B3-4042-A8FA-50006CB5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F70-7278-48B7-919B-EB07D253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8A5-92AC-4516-87E3-311FF55E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E6F-6CD6-441B-80F3-86D64DB0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A0A-B35A-4C49-B4D0-7B0BBC6E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C45-ECDD-4282-A2F4-99CC8DB8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4B9-E3F6-4F2B-81C4-1B486928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581-551A-43D7-8287-F452D093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00B-C0A6-404E-89EB-C4648A13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7EB-A1D4-44C2-81F9-642A9A28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A99-AFBF-420A-BE51-DA9CF06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3B1B-9954-431D-A3F2-0F832D993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emoderatevoice.com/wordpress-engine/files/2007-december/question.gif&amp;imgrefurl=http://themoderatevoice.com/16516/surprises-still-occuring-in-campaign-2008/&amp;usg=__2wFtl9kyFWwZH-ND3_3b1a2VlGs=&amp;h=719&amp;w=959&amp;sz=6&amp;hl=en&amp;start=2&amp;um=1&amp;tbnid=gNLiqRGcLXFflM:&amp;tbnh=111&amp;tbnw=148&amp;prev=/images%3Fq%3Dbig%2Bquestion%2Bmark%26ndsp%3D20%26hl%3Den%26safe%3Dstrict%26sa%3DN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9/Macbeth_of_Scotland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523880"/>
            <a:ext cx="70102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74117"/>
                      </a:srgbClr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Forte"/>
              </a:rPr>
              <a:t>Macbeth</a:t>
            </a:r>
            <a:endParaRPr b="1" lang="en-US" sz="5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>
                      <a:alpha val="74117"/>
                    </a:srgbClr>
                  </a:gs>
                  <a:gs pos="100000">
                    <a:srgbClr val="a603ab"/>
                  </a:gs>
                </a:gsLst>
                <a:lin ang="5400000"/>
              </a:gradFill>
              <a:latin typeface="Forte"/>
              <a:ea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   </a:t>
            </a:r>
            <a:r>
              <a:rPr b="0" lang="en-US" sz="4000" spc="-1" strike="noStrike">
                <a:solidFill>
                  <a:srgbClr val="333399"/>
                </a:solidFill>
                <a:latin typeface="Forte"/>
              </a:rPr>
              <a:t>In Amsterdam in 1672, the actor playing Macbeth substituted the blunt stage dagger with a real one, and with killed his co-actor playing Duncan right in front of the live audience</a:t>
            </a:r>
            <a:r>
              <a:rPr b="0" lang="en-US" sz="3200" spc="-1" strike="noStrike">
                <a:solidFill>
                  <a:srgbClr val="333399"/>
                </a:solidFill>
                <a:latin typeface="Forte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Forte"/>
              </a:rPr>
              <a:t>In the 1942, three actors in another production of Macbeth died, and the costume and set designer committed suicide.</a:t>
            </a: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Britannic Bold"/>
              </a:rPr>
              <a:t>Work Ci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"The Curse of 'Macbeth'" </a:t>
            </a:r>
            <a:r>
              <a:rPr b="0" i="1" lang="en-US" sz="3200" spc="-1" strike="noStrike">
                <a:solidFill>
                  <a:srgbClr val="ffffff"/>
                </a:solidFill>
                <a:latin typeface="Britannic Bold"/>
              </a:rPr>
              <a:t>Pret allez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. Web. 26 Jan. 2010. &lt;http://pretallez.com/onstage/theatre/broadway/macbeth/macbeth_curse.html&gt;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orte"/>
              </a:rPr>
              <a:t>Rituals</a:t>
            </a:r>
            <a:r>
              <a:rPr b="0" lang="en-US" sz="4400" spc="-1" strike="noStrike">
                <a:solidFill>
                  <a:srgbClr val="ff9933"/>
                </a:solidFill>
                <a:latin typeface="Fort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Saying the name "Macbeth" inside a theater will bring bad luck to the play and anyone acting in it. The only exception is when the word is spoken as a line in the play. In order to reverse the bad luck, the person who uttered the word must exit the theater, spin around three times saying a profanity, and then ask for permission to retur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14400" y="4572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095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Should Lady Macbeth be the same age as Lord Macbeth?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 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228600"/>
            <a:ext cx="8305920" cy="632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t doesnt matter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f she was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er or younger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 Macbeth.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he is still a Murder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2320" y="68580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rte"/>
              </a:rPr>
              <a:t>        </a:t>
            </a:r>
            <a:r>
              <a:rPr b="0" lang="en-US" sz="5400" spc="-1" strike="noStrike">
                <a:solidFill>
                  <a:srgbClr val="0000ff"/>
                </a:solidFill>
                <a:latin typeface="Forte"/>
              </a:rPr>
              <a:t>Work Ci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1161720"/>
            <a:ext cx="6400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rte"/>
              </a:rPr>
              <a:t>"Macbeth by William Shakespeare." </a:t>
            </a:r>
            <a:r>
              <a:rPr b="0" i="1" lang="en-US" sz="4000" spc="-1" strike="noStrike">
                <a:solidFill>
                  <a:srgbClr val="000000"/>
                </a:solidFill>
                <a:latin typeface="Forte"/>
              </a:rPr>
              <a:t>Summary Central</a:t>
            </a:r>
            <a:r>
              <a:rPr b="0" lang="en-US" sz="4000" spc="-1" strike="noStrike">
                <a:solidFill>
                  <a:srgbClr val="000000"/>
                </a:solidFill>
                <a:latin typeface="Forte"/>
              </a:rPr>
              <a:t>. Web. 02 Feb. 2010. &lt;http://summarycentral.tripod.com/macbeth.htm&gt;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38080" y="533520"/>
            <a:ext cx="746784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781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What do the predictions made by the three witches mean and what is the significance that there are three weird sisters and why the term sister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61722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762120"/>
            <a:ext cx="74674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ff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Thre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ff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ff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ff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edic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ff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0773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weird sisters predict Macbeth's new title of Thane of Cawdor, his ascendance to the throne of Scotland, and the future reign in Scotland of Banquo's s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7200" spc="-1" strike="noStrike">
                <a:solidFill>
                  <a:srgbClr val="0000ff"/>
                </a:solidFill>
                <a:latin typeface="Britannic Bold"/>
              </a:rPr>
              <a:t>Work Ci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Macbeth." </a:t>
            </a:r>
            <a:r>
              <a:rPr b="0" i="1" lang="en-US" sz="3200" spc="-1" strike="noStrike">
                <a:solidFill>
                  <a:srgbClr val="ffffff"/>
                </a:solidFill>
                <a:latin typeface="Britannic Bold"/>
              </a:rPr>
              <a:t>The Colorado Shakespeare Festival, Boulder, Colorado - Home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. Web. 26 Jan. 2010. &lt;http://www.coloradoshakes.org/index.php?option=com_content&amp;view=article&amp;id=105&gt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orte"/>
              </a:rPr>
              <a:t>Signific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0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The significance of the Three sisters are that they led Macbeth into murder with there predic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 rot="10800000">
            <a:off x="5409720" y="1981440"/>
            <a:ext cx="351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The witche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the primary reason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our 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to feel tr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sympathy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Macbeth desp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his heinous cri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The Relationship Between Macbeth and the Witches."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akespeare On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eb. 02 Feb. 2010. &lt;http://www.shakespeare-online.com/faq/macbethfaq/macbethdarkness.html&gt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the term Weird Sist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rd here comes from the Anglo-Sax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y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means fate or destiny and the Weird Sisters are foretellers of Macbeth's f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beth and the Weird Sisters."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akespeare On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eb. 02 Feb. 2010. &lt;http://www.shakespeare-online.com/faq/macbethfaq/weirdsisters.html&gt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92468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Who is the historical figure of Macbeth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Britannic Bold"/>
              </a:rPr>
              <a:t>Mac Betha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Britannic Bold"/>
              </a:rPr>
              <a:t>mac Findlaích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1430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File:Macbeth of Scotl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7560" y="380880"/>
            <a:ext cx="4653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Britannic Bold"/>
              </a:rPr>
              <a:t>Work Cit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"Macbeth of Scotland -." </a:t>
            </a:r>
            <a:r>
              <a:rPr b="0" i="1" lang="en-US" sz="3200" spc="-1" strike="noStrike">
                <a:solidFill>
                  <a:srgbClr val="ffffff"/>
                </a:solidFill>
                <a:latin typeface="Britannic Bold"/>
              </a:rPr>
              <a:t>Wikipedia, the free encyclopedia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. Web. 27 Jan. 2010. &lt;http://en.wikipedia.org/wiki/Macbeth_of_Scotland&gt;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685800"/>
            <a:ext cx="792468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Is Macbeth a good man who grows into a villain?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143000" y="685800"/>
            <a:ext cx="70102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es because after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predictions everything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nt down hil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or Macbeth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Britannic Bold"/>
              </a:rPr>
              <a:t>Work Cit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Macbeth by William Shakespeare."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ary Cent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eb. 02 Feb. 2010. &lt;http://summarycentral.tripod.com/macbeth.htm&gt;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676520" y="1143000"/>
            <a:ext cx="63291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By: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Jacquelin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Ross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47920" y="2590920"/>
            <a:ext cx="6324480" cy="32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ffff00"/>
                    </a:gs>
                  </a:gsLst>
                  <a:lin ang="10800000"/>
                </a:gra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100000">
                    <a:srgbClr val="ffff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1066680"/>
            <a:ext cx="74678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It is said that Shakespeare's Macbeth is a cursed Play.  What are the reasons behind this accusation and what real things have occurred to support this stat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219320"/>
            <a:ext cx="83818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be0e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Reasons Behind </a:t>
            </a:r>
            <a:endParaRPr b="0" lang="en-US" sz="1800" spc="1" strike="noStrike">
              <a:ln w="38160">
                <a:solidFill>
                  <a:srgbClr val="3333cc"/>
                </a:solidFill>
                <a:miter/>
              </a:ln>
              <a:solidFill>
                <a:srgbClr val="bbe0e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bbe0e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is Accusation.</a:t>
            </a:r>
            <a:endParaRPr b="0" lang="en-US" sz="1800" spc="1" strike="noStrike">
              <a:ln w="38160">
                <a:solidFill>
                  <a:srgbClr val="3333cc"/>
                </a:solidFill>
                <a:miter/>
              </a:ln>
              <a:solidFill>
                <a:srgbClr val="bbe0e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0773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Bauhaus 93"/>
              </a:rPr>
              <a:t>     </a:t>
            </a:r>
            <a:r>
              <a:rPr b="0" lang="en-US" sz="4000" spc="-1" strike="noStrike">
                <a:solidFill>
                  <a:srgbClr val="cc0066"/>
                </a:solidFill>
                <a:latin typeface="Britannic Bold"/>
              </a:rPr>
              <a:t>Will Shakespeare provided h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Britannic Bold"/>
              </a:rPr>
              <a:t>audience with step-by-step instructions in the furtive art of spell casting. 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Britannic Bold"/>
              </a:rPr>
              <a:t>The ritual's practitioners were not happy by this detailed public exposure of their witchcraft, they that have punishment they cast with an everlasting spell on the pl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en-US" sz="6600" spc="-1" strike="noStrike">
                <a:solidFill>
                  <a:srgbClr val="0000ff"/>
                </a:solidFill>
                <a:latin typeface="Britannic Bold"/>
              </a:rPr>
              <a:t>Works Cit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"The Curse of 'Macbeth'" </a:t>
            </a:r>
            <a:r>
              <a:rPr b="0" i="1" lang="en-US" sz="3200" spc="-1" strike="noStrike">
                <a:solidFill>
                  <a:srgbClr val="ffffff"/>
                </a:solidFill>
                <a:latin typeface="Britannic Bold"/>
              </a:rPr>
              <a:t>Pret allez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. Web. 26 Jan. 2010. &lt;http://pretallez.com/onstage/theatre/broadway/macbeth/macbeth_curse.html&gt;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0880" y="990720"/>
            <a:ext cx="85345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orte"/>
              </a:rPr>
              <a:t>Real Things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orte"/>
              </a:rPr>
              <a:t>That Have Occure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9:59:27Z</dcterms:created>
  <dc:creator> </dc:creator>
  <dc:description/>
  <dc:language>en-US</dc:language>
  <cp:lastModifiedBy> </cp:lastModifiedBy>
  <dcterms:modified xsi:type="dcterms:W3CDTF">2010-02-04T19:44:58Z</dcterms:modified>
  <cp:revision>12</cp:revision>
  <dc:subject/>
  <dc:title>Mc</dc:title>
</cp:coreProperties>
</file>